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po.c@centrum.cz" TargetMode="External"/><Relationship Id="rId2" Type="http://schemas.openxmlformats.org/officeDocument/2006/relationships/hyperlink" Target="http://snek.ok.cvut.cz/n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367000" y="654840"/>
            <a:ext cx="53575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DVD-RAM</a:t>
            </a:r>
            <a:br>
              <a:rPr sz="4000"/>
            </a:b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ická rešerš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39640" y="4680000"/>
            <a:ext cx="55800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Times New Roman"/>
              </a:rPr>
              <a:t>autor</a:t>
            </a:r>
            <a:r>
              <a:rPr b="1" lang="en-GB" sz="2800" spc="-1" strike="noStrike">
                <a:solidFill>
                  <a:srgbClr val="ffcc99"/>
                </a:solidFill>
                <a:latin typeface="Times New Roman"/>
              </a:rPr>
              <a:t>: Karel Podvoleck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Times New Roman"/>
              </a:rPr>
              <a:t>kontakt</a:t>
            </a:r>
            <a:r>
              <a:rPr b="1" lang="en-GB" sz="2800" spc="-1" strike="noStrike">
                <a:solidFill>
                  <a:srgbClr val="ffcc99"/>
                </a:solidFill>
                <a:latin typeface="Times New Roman"/>
              </a:rPr>
              <a:t>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kapo.c@centrum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Times New Roman"/>
              </a:rPr>
              <a:t>web</a:t>
            </a:r>
            <a:r>
              <a:rPr b="1" lang="en-GB" sz="2800" spc="-1" strike="noStrike">
                <a:solidFill>
                  <a:srgbClr val="ffcc99"/>
                </a:solidFill>
                <a:latin typeface="Times New Roman"/>
              </a:rPr>
              <a:t>: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snek.ok.cvut.cz/n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8080"/>
                </a:solidFill>
                <a:latin typeface="Times New Roman"/>
              </a:rPr>
              <a:t>vytvořeno</a:t>
            </a:r>
            <a:r>
              <a:rPr b="1" lang="en-GB" sz="2800" spc="-1" strike="noStrike">
                <a:solidFill>
                  <a:srgbClr val="ffcc99"/>
                </a:solidFill>
                <a:latin typeface="Times New Roman"/>
              </a:rPr>
              <a:t>: 11.12.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truktura sektoru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1619280"/>
            <a:ext cx="896148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Defect Managemen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4 identické zóny obsahující informace o defekte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2 u středu, 2 u okraj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aždá obsahuje 2 druhy seznamů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DLA, SDL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fekty 2 typů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Primární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Sekundární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oftware – Windows XP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dpora pro zápis/čtení již zformátovaného disku se souborovým systémem FAT32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Jinak nutnost mít DVD-RAM ovladač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hová se jako disket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řenosové rychlosti  u 3x cca 1350kB/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Software - linux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lasické IDE blokové zařízení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ačí povolit zápis na zařízení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Lze použít libovolný souborový systém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Opět práce jako s disketou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Budoucnost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minulosti velké plány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apacita 15GB, modrý laser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ohužel se neprosadila (velká cena, nepodpora výrobci mechanik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o dneška spíš profesionální oblasti, pouze klasické 4.7GB médium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Budoucnos: zvýšení rychlosti na 16x 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500" spc="-1" strike="noStrike">
                <a:solidFill>
                  <a:srgbClr val="e6e6e6"/>
                </a:solidFill>
                <a:latin typeface="Times New Roman"/>
              </a:rPr>
              <a:t>http://www.hitachi-ee.com/cz/index.php?ap=whatnews&amp;ap2=topnews&amp;cid=1&amp;pid=190</a:t>
            </a:r>
            <a:endParaRPr b="0" lang="en-US" sz="15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tázky ?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o to je DVD-RA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Čistě optické médium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Rozměry jako klasické CD/DV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. 1.0 (2.6GB),v. 2.0 (4.7GB), v. 2.1 (1.4GB, 8cm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Umí přepis (až 100 000x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řístup podobný pevnému disk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Histori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čátky v roce 1996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vní větší rozmach kolem roku 1998 ve video technic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 roce 2003 svěřena správa a rozvoj formátu skupine RAM Promotion Group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erze DVD-RAM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017960" y="1770120"/>
          <a:ext cx="3139920" cy="77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960" y="1770120"/>
                    <a:ext cx="31399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252360" y="2112840"/>
          <a:ext cx="9578880" cy="4044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2360" y="2112840"/>
                    <a:ext cx="957888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Cartridg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artridge: ochranná krabička na médium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erze 1.0 pouze v cartridg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2 typy cartridg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Rozebiratelné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Nerozebiratelné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echnologicke prvk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ostupně proberem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Vlastnosti materiálů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Princip zápisu,čtení,přepis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Zóny na disk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Struktura sektoru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Defect managemen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280" y="5400360"/>
            <a:ext cx="8977320" cy="150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utnost 2 fázového médi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19280" y="1440000"/>
            <a:ext cx="738036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pis,čtení,přepi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00000" y="1619280"/>
            <a:ext cx="846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ón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079640" y="1484280"/>
            <a:ext cx="7920000" cy="517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arel Podvolecký</dc:creator>
  <dc:description/>
  <dc:language>en-US</dc:language>
  <cp:lastModifiedBy>Karel Podvolecký</cp:lastModifiedBy>
  <cp:revision>0</cp:revision>
  <dc:subject/>
  <dc:title/>
</cp:coreProperties>
</file>